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B47-DB58-4024-8531-5962CA65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0A2-4B94-4192-96B3-809CB613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87A7-3F44-4237-95B9-0869850D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F99-0363-4980-9C1D-CDB54863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205-E57B-42A4-A140-0721171A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FFB-4345-4216-9C1B-78B0C332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D6E-918A-4FEF-9C20-C4BAA3FE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E02-970E-4CF4-8900-1D466426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F41-530F-489B-B38F-5840BDBB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86F-812B-4CA4-95C8-828E58B6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745-9392-47D7-9B85-36821622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416-1023-4749-9CC9-C4084434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66F7-16FB-4B1E-B903-F9E16237A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n.wikipedia.org/w/index.php?title=Kingsgrove_High_School&amp;action=edit&amp;redlink=1" TargetMode="External"/><Relationship Id="rId3" Type="http://schemas.openxmlformats.org/officeDocument/2006/relationships/hyperlink" Target="http://en.wikipedia.org/w/index.php?title=Kingsgrove_High_School&amp;action=edit&amp;redlink=1" TargetMode="External"/><Relationship Id="rId4" Type="http://schemas.openxmlformats.org/officeDocument/2006/relationships/hyperlink" Target="http://en.wikipedia.org/w/index.php?title=Kingsgrove_High_School&amp;action=edit&amp;redlink=1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doni MT Black"/>
              </a:rPr>
              <a:t>Anthony Mund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16360" y="2457360"/>
            <a:ext cx="6227640" cy="440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25556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21 May 1975 in NS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d Choc; The 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ed at Kingsgrove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 four children with wife Danielle Mund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is an ex world champion boxer    in the super middleweight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y Award as Male Sportsperson of the Year in 2003, 2006,2007 for box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450200" y="0"/>
            <a:ext cx="1693800" cy="2585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700360" y="4221000"/>
            <a:ext cx="3809880" cy="2476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842160" y="3573360"/>
            <a:ext cx="23018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Rug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His first major league was the Brisbane bron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Anthony Mundine left rugby league half way through the 2000’s seas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14:04Z</dcterms:created>
  <dc:creator>Reservoir District Secondary College</dc:creator>
  <dc:description/>
  <dc:language>en-US</dc:language>
  <cp:lastModifiedBy>Reservoir District Secondary College</cp:lastModifiedBy>
  <dcterms:modified xsi:type="dcterms:W3CDTF">2008-06-27T03:54:20Z</dcterms:modified>
  <cp:revision>3</cp:revision>
  <dc:subject/>
  <dc:title>Anthony Mundine </dc:title>
</cp:coreProperties>
</file>